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5D7-30E2-4836-BC36-12E5214B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8DC-803F-43A9-BC17-7246F41E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B2B-E6BC-41D6-AB76-BA54A99E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524-2553-40DE-BB44-BCAA7B68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AD50-2C86-4790-9540-07A45BB1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91AE-DCB8-4EE1-854A-2F714797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158F-A35F-4B56-A154-ED53CE09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FD2B-0FE3-4CF5-864C-2F2996DC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0A00-7D90-41E9-AE84-0D6D6558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DEFD-630E-4D79-A2FF-36B5283C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63C9-E5A5-4427-89F0-25DFCC5D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064-8CA8-4848-B6B6-AC3BAFCD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1F64-203C-45F7-BEBE-D4AE423F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5158-1354-49C6-ACFC-7D62461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5E5E-B436-48C0-BF92-F330C267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6C42-7182-4E54-995A-53076AF6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468C-A3AC-445D-A643-C8BA4991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D23-3243-42B4-8269-74626A91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0B0-1BFC-4471-9840-F2FE55DD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E5C-6E8E-4753-B2AD-A5718091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0CF-2E0B-42EB-8659-74BC6D76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A3A-6894-4AA8-93E1-2A4E884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0EB-6E78-4CC7-895A-665295F7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6B8-3072-4E70-AAB5-2CF0BC33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699de9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970C-6570-411E-8A06-A6A8E52D8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F50D-7769-4775-82E8-43FB939BA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Slide PowerPoint Đẹp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578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7476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4864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 rot="20876400">
            <a:off x="31640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30956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31161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31338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32259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35132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 rot="20826600">
            <a:off x="13208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2"/>
          <p:cNvGrpSpPr/>
          <p:nvPr/>
        </p:nvGrpSpPr>
        <p:grpSpPr>
          <a:xfrm>
            <a:off x="1244520" y="3371760"/>
            <a:ext cx="1371240" cy="1441080"/>
            <a:chOff x="1244520" y="3371760"/>
            <a:chExt cx="1371240" cy="1441080"/>
          </a:xfrm>
        </p:grpSpPr>
        <p:sp>
          <p:nvSpPr>
            <p:cNvPr id="298" name="Oval 43"/>
            <p:cNvSpPr/>
            <p:nvPr/>
          </p:nvSpPr>
          <p:spPr>
            <a:xfrm>
              <a:off x="12445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12621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12754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13471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15249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Oval 48"/>
          <p:cNvSpPr/>
          <p:nvPr/>
        </p:nvSpPr>
        <p:spPr>
          <a:xfrm>
            <a:off x="12049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9"/>
          <p:cNvSpPr/>
          <p:nvPr/>
        </p:nvSpPr>
        <p:spPr>
          <a:xfrm>
            <a:off x="128124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0"/>
          <p:cNvSpPr/>
          <p:nvPr/>
        </p:nvSpPr>
        <p:spPr>
          <a:xfrm>
            <a:off x="12938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1"/>
          <p:cNvSpPr/>
          <p:nvPr/>
        </p:nvSpPr>
        <p:spPr>
          <a:xfrm>
            <a:off x="130500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2"/>
          <p:cNvSpPr/>
          <p:nvPr/>
        </p:nvSpPr>
        <p:spPr>
          <a:xfrm>
            <a:off x="135900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"/>
          <p:cNvSpPr/>
          <p:nvPr/>
        </p:nvSpPr>
        <p:spPr>
          <a:xfrm>
            <a:off x="14781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4"/>
          <p:cNvSpPr/>
          <p:nvPr/>
        </p:nvSpPr>
        <p:spPr>
          <a:xfrm>
            <a:off x="247176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5"/>
          <p:cNvSpPr/>
          <p:nvPr/>
        </p:nvSpPr>
        <p:spPr>
          <a:xfrm>
            <a:off x="2593800" y="160020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6"/>
          <p:cNvSpPr/>
          <p:nvPr/>
        </p:nvSpPr>
        <p:spPr>
          <a:xfrm>
            <a:off x="2603520" y="160344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7"/>
          <p:cNvSpPr/>
          <p:nvPr/>
        </p:nvSpPr>
        <p:spPr>
          <a:xfrm>
            <a:off x="2610000" y="16095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8"/>
          <p:cNvSpPr/>
          <p:nvPr/>
        </p:nvSpPr>
        <p:spPr>
          <a:xfrm>
            <a:off x="2646360" y="16286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9"/>
          <p:cNvSpPr/>
          <p:nvPr/>
        </p:nvSpPr>
        <p:spPr>
          <a:xfrm>
            <a:off x="2664360" y="1824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4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7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0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3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6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9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6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9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4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7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8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1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4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20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5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6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9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7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2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3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6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9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5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60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1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4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7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3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AutoShape 88"/>
          <p:cNvCxnSpPr>
            <a:stCxn id="485" idx="3"/>
            <a:endCxn id="486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89"/>
          <p:cNvCxnSpPr>
            <a:stCxn id="486" idx="3"/>
            <a:endCxn id="487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AutoShape 90"/>
          <p:cNvCxnSpPr>
            <a:stCxn id="487" idx="3"/>
            <a:endCxn id="488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5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7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3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85800" y="1905120"/>
          <a:ext cx="7691400" cy="3492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5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c4c5f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6d68f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59723a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bfd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9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6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3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0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0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8ed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6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0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3"/>
          <p:cNvSpPr txBox="1"/>
          <p:nvPr/>
        </p:nvSpPr>
        <p:spPr>
          <a:xfrm>
            <a:off x="1835280" y="1371600"/>
            <a:ext cx="583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838080" y="2286000"/>
            <a:ext cx="7910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3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4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91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6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0" y="19051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e2e9fe"/>
              </a:gs>
              <a:gs pos="100000">
                <a:srgbClr val="699d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09480" y="2514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09480" y="3657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09480" y="4800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5053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3:37Z</dcterms:created>
  <dc:creator>Admin</dc:creator>
  <dc:description/>
  <dc:language>en-US</dc:language>
  <cp:lastModifiedBy>Anh Hung Pro</cp:lastModifiedBy>
  <dcterms:modified xsi:type="dcterms:W3CDTF">2016-09-06T14:23:22Z</dcterms:modified>
  <cp:revision>2</cp:revision>
  <dc:subject/>
  <dc:title>PowerPoint Template</dc:title>
</cp:coreProperties>
</file>